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F9EA-4C60-435C-AAAB-7B961EC6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7819-3229-4673-86A2-85BC0740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207C-A7E2-456A-9E0E-E301FF79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049-66FE-49CA-AA55-09E10384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740-9DFB-4575-9071-B874D2A9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C39E-C66A-4EB7-BFAB-49AD12D6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E0E4-4268-4B08-AAE1-D683E196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E6AB-A02B-49D3-922B-D4C51337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E04D-0D38-4AB2-8529-331C5439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5F1F-6198-4911-B353-0B16FAAC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6C2-3D73-4091-A3ED-ECC3D8D0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CF8-3F99-4266-B608-0D388534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937A-407A-4BCC-A389-0A7866A85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1: Political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2: Presidential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3: Interest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4: Public Opinion &amp;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3: Interest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Interes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con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How they 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ur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obb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Regulation/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ribes, “G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Citizen 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4: Public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rsonal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ss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ublic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Interest Groups SINGLE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nt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ublic Opinion P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andom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Mass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ublic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andidates/Public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lected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atchdog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National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ens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ior Re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ibel, Sl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ic 1: Political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 Two Part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omas Jeff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mocratic Republ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mocr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lexander Hamil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Federal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publi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Third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opulists, Progress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ower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8487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.Political Ide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iberalism------------------Conserva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emocrats------------------Republ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asic fundamental differences of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Political free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Social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conomic freed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arty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Home/So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traight ticket v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79250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Major U.S.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Democra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igger Government, More role in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gulating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ovide for the less fortu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ocial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Republ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ess gov’t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ess Government, Less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litical Freedom, Economic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Indepen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epends, Moderate, Middle of 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National Party Organiz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. National Committe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National Party Chairpers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. National Conven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Every four yea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Write Platform with Plan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. Nominate Party Presidential Candid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. State/Local Organiz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. State committe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50 tot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. Local Committe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Precinct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War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. Political Machin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. Tammany Hal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I. Role of Political Parties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inating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Pri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losed &amp; Open Prim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off Pri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ition for Third Party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arty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igning For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ing Citiz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 Gov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chd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2: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Old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ntempo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How to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olling Place; Prec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ast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Ballo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bsentee Vo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nstitu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A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519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Elec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imary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eneral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pecial/Issue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Presidential 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o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lection; ELECTORAL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ampaig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anv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ndor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ivate (soft $, PACs)  -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ampaign Tac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littering Ge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andwa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ersonal Attacks/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ndor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Just Plain Fo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8:29:17Z</dcterms:created>
  <dc:creator>Chatham County</dc:creator>
  <dc:description/>
  <dc:language>en-US</dc:language>
  <cp:lastModifiedBy>Chatham County</cp:lastModifiedBy>
  <dcterms:modified xsi:type="dcterms:W3CDTF">2010-10-05T16:57:12Z</dcterms:modified>
  <cp:revision>2</cp:revision>
  <dc:subject/>
  <dc:title>PowerPoint Presentation</dc:title>
</cp:coreProperties>
</file>